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wmf"/><Relationship Id="rId3" Type="http://schemas.openxmlformats.org/officeDocument/2006/relationships/slide" Target="slide12.xml"/><Relationship Id="rId4" Type="http://schemas.openxmlformats.org/officeDocument/2006/relationships/image" Target="../media/image3.wmf"/><Relationship Id="rId5" Type="http://schemas.openxmlformats.org/officeDocument/2006/relationships/slide" Target="slide16.xml"/><Relationship Id="rId6" Type="http://schemas.openxmlformats.org/officeDocument/2006/relationships/image" Target="../media/image4.wmf"/><Relationship Id="rId7" Type="http://schemas.openxmlformats.org/officeDocument/2006/relationships/slide" Target="slide14.xml"/><Relationship Id="rId8" Type="http://schemas.openxmlformats.org/officeDocument/2006/relationships/image" Target="../media/image5.wmf"/><Relationship Id="rId9" Type="http://schemas.openxmlformats.org/officeDocument/2006/relationships/slide" Target="slide10.xml"/><Relationship Id="rId10" Type="http://schemas.openxmlformats.org/officeDocument/2006/relationships/image" Target="../media/image6.wmf"/><Relationship Id="rId11" Type="http://schemas.openxmlformats.org/officeDocument/2006/relationships/slide" Target="slide18.xml"/><Relationship Id="rId12" Type="http://schemas.openxmlformats.org/officeDocument/2006/relationships/image" Target="../media/image7.wmf"/><Relationship Id="rId13" Type="http://schemas.openxmlformats.org/officeDocument/2006/relationships/slide" Target="slide20.xml"/><Relationship Id="rId14" Type="http://schemas.openxmlformats.org/officeDocument/2006/relationships/image" Target="../media/image8.wmf"/><Relationship Id="rId15" Type="http://schemas.openxmlformats.org/officeDocument/2006/relationships/slide" Target="slide6.xml"/><Relationship Id="rId16" Type="http://schemas.openxmlformats.org/officeDocument/2006/relationships/image" Target="../media/image9.wmf"/><Relationship Id="rId17" Type="http://schemas.openxmlformats.org/officeDocument/2006/relationships/slide" Target="slide4.xml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wmf"/><Relationship Id="rId3" Type="http://schemas.openxmlformats.org/officeDocument/2006/relationships/slide" Target="slide12.xml"/><Relationship Id="rId4" Type="http://schemas.openxmlformats.org/officeDocument/2006/relationships/image" Target="../media/image3.wmf"/><Relationship Id="rId5" Type="http://schemas.openxmlformats.org/officeDocument/2006/relationships/slide" Target="slide16.xml"/><Relationship Id="rId6" Type="http://schemas.openxmlformats.org/officeDocument/2006/relationships/image" Target="../media/image4.wmf"/><Relationship Id="rId7" Type="http://schemas.openxmlformats.org/officeDocument/2006/relationships/slide" Target="slide14.xml"/><Relationship Id="rId8" Type="http://schemas.openxmlformats.org/officeDocument/2006/relationships/image" Target="../media/image5.wmf"/><Relationship Id="rId9" Type="http://schemas.openxmlformats.org/officeDocument/2006/relationships/slide" Target="slide10.xml"/><Relationship Id="rId10" Type="http://schemas.openxmlformats.org/officeDocument/2006/relationships/image" Target="../media/image6.wmf"/><Relationship Id="rId11" Type="http://schemas.openxmlformats.org/officeDocument/2006/relationships/slide" Target="slide18.xml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 txBox="1"/>
          <p:nvPr/>
        </p:nvSpPr>
        <p:spPr>
          <a:xfrm>
            <a:off x="1447920" y="32004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llywood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554688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was Orlick’s reasoning for getting revenge on Pi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5120" y="-152280"/>
            <a:ext cx="485136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2308320"/>
            <a:ext cx="479088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5006880"/>
            <a:ext cx="861048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rint MT Shadow"/>
              </a:rPr>
              <a:t>He claimed that Pip came between him and his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rint MT Shadow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Imprint MT Shadow"/>
              </a:rPr>
              <a:t>How dared you come between me and a young woman I liked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rint MT Shadow"/>
              </a:rPr>
              <a:t>-Or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302080"/>
            <a:ext cx="76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mprint MT Shadow"/>
              </a:rPr>
              <a:t>What does Pip promise Magwich after the arre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8720" y="5818320"/>
            <a:ext cx="76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will never “stir from his side” and he will be as true to Magwitch as Magwitch has been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5302080"/>
            <a:ext cx="7639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mprint MT Shadow"/>
              </a:rPr>
              <a:t>Why was Magwich trying to get to the German Steamer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75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8720" y="5105520"/>
            <a:ext cx="763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rint MT Shadow"/>
              </a:rPr>
              <a:t>So that he did not get caught for escaping prison.(to go back to where he is saf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8720" y="5029200"/>
            <a:ext cx="763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rint MT Shadow"/>
              </a:rPr>
              <a:t>What is Magwich’s view of what happened to Compeyson in the riv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7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8720" y="5181480"/>
            <a:ext cx="763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mprint MT Shadow"/>
              </a:rPr>
              <a:t>He drowned, but it was not Magwich’s faul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9514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mprint MT Shado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Imprint MT Shadow"/>
              </a:rPr>
              <a:t>What are two things that Pip thinks about when his life is threatened by Orli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75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2720" y="-228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3000" y="213372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44840" y="91440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76200" y="4724280"/>
            <a:ext cx="76392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-not being able to apoligize to Biddy and 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-Magwich would think Pip deserted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-Herbert would doub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0160" y="281952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28720" y="5410080"/>
            <a:ext cx="76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badly was Pip hurt after his encounter with Orli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75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s arm was hu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2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64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68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54688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two things that Orlick told Pi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7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554688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killed Mrs.Joe, he was going to kill Pip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554688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three people saved Pip from Orli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rbert, Trabbs son, and Start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554688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name of the river they traveled 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7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Thames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lynn</cp:lastModifiedBy>
  <dcterms:modified xsi:type="dcterms:W3CDTF">2009-03-16T22:19:04Z</dcterms:modified>
  <cp:revision>29</cp:revision>
  <dc:subject/>
  <dc:title>No Slide Title</dc:title>
</cp:coreProperties>
</file>